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7309-626D-46E0-A99C-CA37256B4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E5F6-7049-4A4B-813E-21B0DA6FC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2125-C97B-4676-A7D9-33391065A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529A-9F3C-43F0-A931-466BEBBBC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76B2-E7EA-416A-9FF5-A2DDEA166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FD96-F029-4399-A3A7-136D5A0C8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FC89-7698-4F7B-92A7-2729F537E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4336-45F3-4C0B-9929-22DC8539E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8FDE-D35D-40AB-A5EF-86CBA1C69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0E1E-9798-499D-9931-4018B0A6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8DD9-2D7E-424B-BAD3-2D5E35F3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2493-1C5C-4BA3-A9C2-F9BCBB42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70CBD-E6C2-4363-88AB-5F431ABB8DA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7960" y="1447920"/>
            <a:ext cx="5810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Example of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Selection Bia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In Case Control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Studi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7238880" cy="2530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990720" y="2971800"/>
            <a:ext cx="7238880" cy="1143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990720" y="4114800"/>
            <a:ext cx="72388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7238880" cy="2530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990720" y="2971800"/>
            <a:ext cx="7238880" cy="1066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705720" y="3733920"/>
            <a:ext cx="1523880" cy="30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990720" y="4038480"/>
            <a:ext cx="72388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391160" cy="5410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281600" y="852480"/>
            <a:ext cx="596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fferent choice of controls suggest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8487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391520" cy="2276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914400" y="2666880"/>
            <a:ext cx="7391520" cy="12193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914400" y="3886200"/>
            <a:ext cx="73915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7391160" cy="20480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990720" y="2438280"/>
            <a:ext cx="7391160" cy="1524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990720" y="3962520"/>
            <a:ext cx="73911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4674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696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772400" cy="17528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62120" y="2362320"/>
            <a:ext cx="7772400" cy="10191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762120" y="3352680"/>
            <a:ext cx="77724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96080" cy="17528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62120" y="2362320"/>
            <a:ext cx="7696080" cy="1133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762120" y="3505320"/>
            <a:ext cx="769608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848720" cy="5410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105520" y="1905120"/>
            <a:ext cx="259056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010280" y="2743200"/>
            <a:ext cx="167652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00600" y="3352680"/>
            <a:ext cx="22860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96080" cy="17528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762120" y="2362320"/>
            <a:ext cx="7696080" cy="13716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762120" y="3733920"/>
            <a:ext cx="7543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7724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696080" cy="5715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7086600" y="6172200"/>
            <a:ext cx="13716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8487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162920" cy="4038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066680" y="685800"/>
            <a:ext cx="71629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1625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6964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4674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3152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7238880" cy="2530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990720" y="2971800"/>
            <a:ext cx="7238880" cy="3124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629400" y="5715000"/>
            <a:ext cx="160020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21T15:38:06Z</dcterms:modified>
  <cp:revision>213</cp:revision>
  <dc:subject/>
  <dc:title>Slide 1</dc:title>
</cp:coreProperties>
</file>